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gif" ContentType="image/gif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F02E-0B41-4B7A-A091-D8427260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6926-C559-47C9-AB5E-37CFE583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6B3F3-4936-46FE-9DBC-6B146E76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8987-C917-40C6-B948-2C3CC348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EDAF-39E5-4699-A3C5-09D39F7E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EEC6-2793-4ED5-B09E-B27145FF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02CC-2E13-4D91-893D-D861DE33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D794-B893-4FC0-B110-45DD5D29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A1AD-BA8E-481E-B588-7D506381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3C51-27DB-4BAB-B96C-FE9A1134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D3CC-62D2-48F4-95F5-ACAD41ED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77FBA-9191-4457-AC29-8FECCC54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DDAD-3ACE-4759-B791-4B71457E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E9A5-03A7-4087-ACE0-6D1BA944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7346-99AE-4A69-BF45-AD1C8526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F66F-A9C4-4FE1-B729-9BBFCCE3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A855-ADB1-4857-A226-0B42830C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F4E36-2AA8-4A91-95E7-88E42E6B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113A-ADD7-409A-AC6E-5722CA8E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2C8F0-D153-40AA-936B-3DCE1D6E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3C0AB-60A7-4C77-8E59-4ACE8B4B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778FB-5B60-4417-B84B-2E4638D0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23EC1-712B-4E51-8CC3-48D859B6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0694-EB5B-4002-BAC7-5145C233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1C45-8339-4C75-B5E2-541BC7CFEA7C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94F7-EC9B-43C3-9670-5E8ABEC662D9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dfdef6"/>
                </a:solidFill>
                <a:latin typeface="Arial"/>
              </a:rPr>
              <a:t>Trauma kod žen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f dr A.Živanov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AK KC Kragujev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Cirkulacija i kontrola krvarenja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Srčana frekvenca se povećava tokom trudnoće i dostiže tokom trećeg trimenstra povećanje od 10 do 15 otkucaja u min u odnosu na bazalnu linij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Arterijski krvni pritisak se smanjuje za 5 do 15 mmHg tokom drugog trimestra sa povratkom na normanlne vrednosti u terminu porođaj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Cirkulatorni volumen se povećava za 40 do 50%, uglavnom povećanjem volumena plazme što dovodi do hemodilucije i „fiziološke anemije“ u trudnoći. Hematokrit u trećem trimestru je normalno 0,30 do 0,3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ve promene su bitne kako bi se smanjio ukupan gubitak eritrocita tokom krvarenja u porođaj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Cirkulacija i kontrola krvarenj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Srčani izlazni volumen krvi se povećava tokom trudnoće, tako da dostiže 20 do 30% veće vrednosti a krajem trećeg trimestra čak 40% veće vrednosti u odosu na stanje pre trudnoć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Oko 25% cirkulatornog volumena odlazi za potrebe materic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U trećem trimestru materica mehanički, može pritiskom na venu kavu da redukuje venski input u srce ukoliko se trudnica leži na leđima - sindrom vene ca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457200" y="2306520"/>
            <a:ext cx="403848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Cirkulacija i kontrola krvarenj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Cirkulatorne promene u trudnoći, omogućavaju ženi da se lako adaptira na gubitak krvi od 1000 do 1500ml uz minimalne kliničke znake, dok s druge strane fetus pokazuje jasne znake patnj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Fiziološki vaskularni sistem posteljice je maksimalno dilatiran i ne poseduje značajnu autoregulatornu rezervu. To znači da pad arterijskog krvnog pritiska kod trudnice dovodi do placentalne vazokonstrikcije i smanjenja uteroplacentarnog protoka što ima za posledicu dramatičan pad parcijalnog pritiska kiseonika u fetalnoj cirkulaci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Kompenzacije hipovolemije kod majke drastično utiče na fetalni dist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Cirkulacija i kontrola krvarenj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ormalni fetalni parametri ukazuju na manji gubitak krvi i na adekvatnu resuscitaciju. S druge strane, hipotenzija trudnice koja nije posledica aortokavalne kompresije, dovodi  u 80% slučajeva do intrauterusne smrti plo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gresivna resuscitacija volumena mora se uspostaviti rano u ovakvim slučajev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Terapijska nadoknada cirkulatornog volumena počinje brzom infuzijom kristalnih rastvora i transfuzijom eritrocita. Ovi postupci predstavljaju osnovu u terapiji hemoragijskog šok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Cirkulacija i kontrola krvarenj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trošna koagulopatija može da izazove sekundarni šok i oštećenje tkiv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Nivo fibrinogena ispod 100 mg na decilitar ili produženo protrombinsko vreme i APTT je indikacija kod pacijentkinja koje krvare za upotrebu krioprecipitata plaz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Ordiniranje opranih trombocita zavisi od koncentracije trombocita. Jedna jedinica transfuzije trombocita podiže broj trombocita od 8.000 do 10.000 na milimetar kubni i treba je uvek primeniti kada je broj trombocita manji od 30.000 na milimetar kub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457200" y="2484360"/>
            <a:ext cx="403848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Cirkulacija i kontrola krvarenj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bzirom da se traumatizovani pacijenti obično transportuju u supinoj poziciji postoji kod trudnica rizik za pojavu sindroma vene cave, posebno u trećem trimestr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Zbog toga se mora obezbediti lako pomeranje materice u stranu, obično na lev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457200" y="235116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Promene na CNS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Trauma kod trudnice može nastati kao posledica eklamptičnog napada a redukovani stepen svesnosti pacijentkinje ne nastaje samo od povrede glave, nego se može javiti i kao deo kliničke slike eklampsij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eophodno što pre uraditi analizu urina na proteine. Konkomitantno prisustvo proteinurije, hipertenzije i perifernog edema olakšava postavljanje dijagnoz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e postoji specifičan test za dijagnozu eklampsije. Dijagoza se postavlja na osnovu kliničkih znakova i simptom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dfdef6"/>
                </a:solidFill>
                <a:latin typeface="Arial"/>
              </a:rPr>
              <a:t>Sekundarna obra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eophodno je pažljivo ispitivanje abdome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Znaci peritonealne iritacije mogu biti otežani kod trudnica, zbog istezanja prednjeg trbušnog zida od strane uvećane materice. Određivanje zone bolova i širenja bola u predelu abdomena je od izuzetnog značaja. Pokreti ploda mogu se palpirati kao i prisustvo ili odsustvo materičnih kontrakcij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Konsultacija akušera je neophodna u ovoj fazi obrade pacijentkinje kako bi se dijagnostikovalo stanje fetusa i eventualne intravaginalne povre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dfdef6"/>
                </a:solidFill>
                <a:latin typeface="Arial"/>
              </a:rPr>
              <a:t>Sekundarna obra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Vaginalno krvarenje se javlja u 70% slučajeva abrupcije placente. Izuzetak su retroplacentarni hematomi. U takvim slučajevima bitno je prepoznati pojačan tonus materice, bol i fetalni dist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Abrupcija posteljice dešava se kod 2 do 4% slučajeva trauma manjeg intenziteta dok se kod abdominalnih trauma taj broj penje i na 50%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Neophodna je auskultacija srčanih tonova ploda što p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U maloj trudnoći koristi se ultrazvučna dijagnostika a kod većih trudnoća, posebno u trećem trimestru metoda izbora je kontinuirana kardiotokografija (CTG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dfdef6"/>
                </a:solidFill>
                <a:latin typeface="Arial"/>
              </a:rPr>
              <a:t>Sekundarna obra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284360" y="1267920"/>
            <a:ext cx="43974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Sve trudnice, žrtve traume, kod kojih je dijagnostikovana vitalna trudnoća veća od 24 gestacione nedelje treba podvrgnuti kontinuiranom CTG monitoringu, čak iako nema evidentne povrede abdomen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va vrsta ispitivanja ima visoku senzitivnost i specifičnost u otkrivanju početka prevremnog porođaja, abrupcije posteljice i fetalne asfiksij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3"/>
          <a:stretch/>
        </p:blipFill>
        <p:spPr>
          <a:xfrm>
            <a:off x="395280" y="2133720"/>
            <a:ext cx="33130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rudnoća menja funkcije skoro svih sistema u organizmu žen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zmenjene su osnovne fiziološke funkcije i postoji razlika u odgovoru na patološke nokse u odnosu na stanje van trudnoć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Posebno je i briga o stanju fetusa važna u strategiji dijagnostičkih i terapijksih proced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nogi principi koji se primenjuju kod kritičnih pacijenata, primenjuju se i kod trudn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Trauma kod žena u trudnoći je veoma česta (6 do 8%) i najčešći je ne-akušerski uzrok smrti u ovoj grupi pacijena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Feto maternalna hemoragija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Fetomaternalna hemoragija je pojam koji opisuje gubitak krvi preko uteroplacentarne jedin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Kod 8 do 30% slučajeva traume trudnica, dolazi do prodora fetalnih eritrocita u krvotok majke. To dovodi do povećanog rizika da se kod Rh negativnih trudnica razvije senzibilizacija na Rh pozitivan fet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Ne postoji korelacija između težine traume, gestacione starosti trudnoće i veličine fetomaternalne hemoragije u odnosu na stepen senzibilizacije. Čak i mala količina fetalne krvi kao što je 0,1 ml može da dovede senzibilizacije u 70% slučajev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bavezna profilaktička doza anti-D imunoglobulina (Rhogam) u dozi od 300 mikrograma, svim traumatizovanim Rh negativnim trudnicam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Profilaksa se sprovodi unutar 72 sata od momenta nastupanja traume. Jedna doza je dovoljna da neutrališe 30ml fetalne krv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dfdef6"/>
                </a:solidFill>
                <a:latin typeface="Arial"/>
              </a:rPr>
              <a:t>Anatomske implikacije na mehanizam povred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Tokom prvih dvanaest nedelja trudnoće materica se nalazi unutar koštanog dela male karlice i relativno je zaštićena od mehaničkih povred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Tokom drugog trimestra materica raste i izlazi iz anatomskog prostora male karlice. Debljina materičnog zida, amnionska tečnost i relativno mala veličina fetusa pomažu da se umanje konsekvence direktne trau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Tokom trećeg trimestra zid materice se istanjuje  tako da je tada manja zaštita od mehaničkih povreda fetus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4"/>
          <a:stretch/>
        </p:blipFill>
        <p:spPr>
          <a:xfrm>
            <a:off x="457200" y="2214720"/>
            <a:ext cx="403848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dfdef6"/>
                </a:solidFill>
                <a:latin typeface="Arial"/>
              </a:rPr>
              <a:t>Anatomske implikacije na mehanizam povred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Materica kao mišićno vezivni organ u trećem trimenstru ima elasticitet koji se razlikuje od posteljice. To objašnjava veću učestalost abrupcije placente i kod manjih trauma prednjeg trbušnog zida, tako da prilikom mehaničke povrede najčešće dolazi do odlubljivanja placente i posledičnog fetalnog distres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457200" y="225108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dfdef6"/>
                </a:solidFill>
                <a:latin typeface="Arial"/>
              </a:rPr>
              <a:t>Anatomske implikacije na mehanizam povred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Probojne povrede u drugom i trećem trimestru mogu izazvati kompleksnu kombinaciju oštećenja organa gastrointenstinalnog trakta koji je tokom trudnoće dislocir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S druge strane materica je krajnje efektivna u zaštiti majke, u smislu veličine zaštitne površine koja se nalazi ispred vitalnih organa kao i zbog povećanog kapaciteta absorpcije energij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ncidenca smrti trudnica je manja. Međutim fetus kod probojnih povreda nije zaštićen. Kod povreda nastalih vatrenim oružjem koje zahvataju matericu maternalni mortalitet je od 7 do 10% a fetalni raste i do 70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dfdef6"/>
                </a:solidFill>
                <a:latin typeface="Arial"/>
              </a:rPr>
              <a:t>Pre hospitalno zbrinjavanje</a:t>
            </a: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Idelano bi primena lokalnog protokola trijaže podrazumevala da se trudnice kao žrtve traume transportuju u ustanovu koja ima sve uslove za zbrinjavanje i trudnice i fetus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Mogućnost adekvatnog monitoringa fetusa je krucijalni faktor u odlučivanju tokom kliničkih postupaka. Takođe je važno da prehospitalni tim upozori na vreme centar ili bolnicu da tim ginekologa-akušera bude spreman i dostupan pri prijemu povređene trudn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3"/>
          <a:stretch/>
        </p:blipFill>
        <p:spPr>
          <a:xfrm>
            <a:off x="1047600" y="2700360"/>
            <a:ext cx="28576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dfdef6"/>
                </a:solidFill>
                <a:latin typeface="Arial"/>
              </a:rPr>
              <a:t>Kontrola disajnih puteva i vratnog dela kičmenog stuba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Edem gornjih disajnih puteva trudnica nastaje kao posledica pojačane kapilarne propustljivosti u kasnijim fazama trudnoće kao i zbog povećanja masnog tkiva na licu i povećanja volumena dojk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Kompromitovanje gornjih disajnih puteva zbog inhalacije želudačnog sadržaja je konstatna pretnja, posedno tokom trećeg trimestra kada dolazi do podizanja želuca sa promenom gastroezofagelanog ugla koja dovodi do slabljenja sfinkt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Povećavan rizik od regurgitacije i aspiracije želudačne kiseline tako da je veoma važno obezbediti prolaznost disajnih puteva primenom fiksirajućeg endotrahealnog tubus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Disanje i ventilacija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risustvo gravidne materice, u odmakloj trudnoći, dovodi do promena kao što je smanjenje funkcionalnog rezidualnog kapaciteta (FRC) za 20%, respiratorni pokreti mogu biti smanjeni i za 50% u supinoj poziciji trudnice što može da dovede do smanjenja plućne komplijans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Kao rezultat ovih promena trudnice su u većem riziku za smanjenu saturaciju i hipoksiju u odnosu na negravidne žene. Zbog toga je neohodna nadoknada kiseonika kod svih traumatizovanih trudnic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539640" y="2492280"/>
            <a:ext cx="3781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fdef6"/>
                </a:solidFill>
                <a:latin typeface="Arial"/>
              </a:rPr>
              <a:t>Disanje i ventilacij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Zbog redukcije funkcionalnog rezidualnog kapaciteta (FRC) koji je bitan kao rezerva kiseonika tokom apneje kao i zbog povećane potrošnje kiseonika kod trudnica, mora se pažljivo osigurati oksigenacija pre primene hipnotika i neuromuskularnih blokatora tokom endotrahealne intubacij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To se postiže tokom 3 do 6 minutne respiracije 100% koncentracije kiseonika preko maske za disanj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457200" y="2324160"/>
            <a:ext cx="403848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08:32:53Z</dcterms:created>
  <dc:creator>Zivanovic</dc:creator>
  <dc:description/>
  <dc:language>en-US</dc:language>
  <cp:lastModifiedBy>Zivanovic</cp:lastModifiedBy>
  <dcterms:modified xsi:type="dcterms:W3CDTF">2011-12-17T22:36:27Z</dcterms:modified>
  <cp:revision>6</cp:revision>
  <dc:subject/>
  <dc:title>Trauma kod žena</dc:title>
</cp:coreProperties>
</file>